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7654-FA63-49BF-A585-3A3E6753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BFF1-CCBB-42FD-8B89-B531B32A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A67-EEBB-461E-8919-332AD1E9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0ED-E61C-423E-922C-A89EAA2E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E98-D3DF-49E5-B39D-FF8A2661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6400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2472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0328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6400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62472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D16-005C-447C-913F-30EFD734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E77-D6C6-4971-8675-38883004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5DA-3AE3-4D4A-9A6A-830A1BDC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6FD-CE6D-41C1-90C5-D1AD123F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5C7-4199-45B7-92B3-E1A19016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EEC-931C-482D-A403-E24DC33B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465-281C-401D-951E-DB55D68A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203600"/>
            <a:ext cx="234612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203600"/>
            <a:ext cx="318456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203600"/>
            <a:ext cx="234612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940C167E-B581-475C-A7EB-679B3FD3FBFC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able 6"/>
          <p:cNvGrpSpPr/>
          <p:nvPr/>
        </p:nvGrpSpPr>
        <p:grpSpPr>
          <a:xfrm>
            <a:off x="0" y="0"/>
            <a:ext cx="10058400" cy="7772400"/>
            <a:chOff x="0" y="0"/>
            <a:chExt cx="10058400" cy="77724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2514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14600" y="0"/>
              <a:ext cx="2514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29200" y="0"/>
              <a:ext cx="2514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543800" y="0"/>
              <a:ext cx="2514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86200"/>
              <a:ext cx="2514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886200"/>
              <a:ext cx="2514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029200" y="3886200"/>
              <a:ext cx="2514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543800" y="3886200"/>
              <a:ext cx="2514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14600" y="0"/>
              <a:ext cx="0" cy="777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29200" y="0"/>
              <a:ext cx="0" cy="777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43800" y="0"/>
              <a:ext cx="0" cy="777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886200"/>
              <a:ext cx="100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0"/>
              <a:ext cx="0" cy="777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058400" y="0"/>
              <a:ext cx="0" cy="777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0"/>
              <a:ext cx="100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7772400"/>
              <a:ext cx="100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Right Arrow Callout 7"/>
          <p:cNvGrpSpPr/>
          <p:nvPr/>
        </p:nvGrpSpPr>
        <p:grpSpPr>
          <a:xfrm>
            <a:off x="-2852640" y="-36360"/>
            <a:ext cx="2828880" cy="3462120"/>
            <a:chOff x="-2852640" y="-36360"/>
            <a:chExt cx="2828880" cy="3462120"/>
          </a:xfrm>
        </p:grpSpPr>
        <p:pic>
          <p:nvPicPr>
            <p:cNvPr id="59" name="Right Arrow Callout 7" descr=""/>
            <p:cNvPicPr/>
            <p:nvPr/>
          </p:nvPicPr>
          <p:blipFill>
            <a:blip r:embed="rId2"/>
            <a:stretch/>
          </p:blipFill>
          <p:spPr>
            <a:xfrm>
              <a:off x="-2852640" y="-36360"/>
              <a:ext cx="2828880" cy="34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-2743200" y="0"/>
              <a:ext cx="1733400" cy="33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OP R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riple-click on the phrase and begin typing your information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O NOT press the delete key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Right Arrow Callout 8"/>
          <p:cNvGrpSpPr/>
          <p:nvPr/>
        </p:nvGrpSpPr>
        <p:grpSpPr>
          <a:xfrm>
            <a:off x="10077480" y="957240"/>
            <a:ext cx="2790720" cy="2011320"/>
            <a:chOff x="10077480" y="957240"/>
            <a:chExt cx="2790720" cy="2011320"/>
          </a:xfrm>
        </p:grpSpPr>
        <p:pic>
          <p:nvPicPr>
            <p:cNvPr id="62" name="Right Arrow Callout 8" descr=""/>
            <p:cNvPicPr/>
            <p:nvPr/>
          </p:nvPicPr>
          <p:blipFill>
            <a:blip r:embed="rId3"/>
            <a:stretch/>
          </p:blipFill>
          <p:spPr>
            <a:xfrm>
              <a:off x="10077480" y="957240"/>
              <a:ext cx="279072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1068200" y="990720"/>
              <a:ext cx="17334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P R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Insert Clip Art for each page in the top row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Right Arrow Callout 9"/>
          <p:cNvGrpSpPr/>
          <p:nvPr/>
        </p:nvGrpSpPr>
        <p:grpSpPr>
          <a:xfrm>
            <a:off x="10077480" y="4157640"/>
            <a:ext cx="2840040" cy="3309840"/>
            <a:chOff x="10077480" y="4157640"/>
            <a:chExt cx="2840040" cy="3309840"/>
          </a:xfrm>
        </p:grpSpPr>
        <p:pic>
          <p:nvPicPr>
            <p:cNvPr id="65" name="Right Arrow Callout 9" descr=""/>
            <p:cNvPicPr/>
            <p:nvPr/>
          </p:nvPicPr>
          <p:blipFill>
            <a:blip r:embed="rId4"/>
            <a:stretch/>
          </p:blipFill>
          <p:spPr>
            <a:xfrm>
              <a:off x="10077480" y="4157640"/>
              <a:ext cx="2840040" cy="33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1068200" y="4191120"/>
              <a:ext cx="17334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OTTOM R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Insert Clip Art for each page in the bottom row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Rotate each picture so that it is upside dow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Right Arrow Callout 10"/>
          <p:cNvGrpSpPr/>
          <p:nvPr/>
        </p:nvGrpSpPr>
        <p:grpSpPr>
          <a:xfrm>
            <a:off x="-2852640" y="3621240"/>
            <a:ext cx="2828880" cy="4529160"/>
            <a:chOff x="-2852640" y="3621240"/>
            <a:chExt cx="2828880" cy="4529160"/>
          </a:xfrm>
        </p:grpSpPr>
        <p:pic>
          <p:nvPicPr>
            <p:cNvPr id="68" name="Right Arrow Callout 10" descr=""/>
            <p:cNvPicPr/>
            <p:nvPr/>
          </p:nvPicPr>
          <p:blipFill>
            <a:blip r:embed="rId5"/>
            <a:stretch/>
          </p:blipFill>
          <p:spPr>
            <a:xfrm>
              <a:off x="-2852640" y="3621240"/>
              <a:ext cx="2828880" cy="45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-2743200" y="3657600"/>
              <a:ext cx="1733400" cy="44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BOTTOM R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riple-click on the phrase and begin typing your information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O NOT press the delete key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Rotate all text boxes so that they are upside dow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152280" y="228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ck 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2743200" y="2286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334120" y="228600"/>
            <a:ext cx="20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ge 1-Triple-click in this text box and enter your information for Page 1 of your 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7772400" y="228600"/>
            <a:ext cx="20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ge 2-Triple-click in this text box and enter your information for Page 2 of your 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57800" y="4449600"/>
            <a:ext cx="2057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ge 4-Triple-click in this text box and enter your information for Page 4 of your book. Rotate the text box 180 degrees  after you have entere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7696080" y="4449600"/>
            <a:ext cx="2057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ge 3-Triple-click in this text box and enter your information for Page 3 of your book. Rotate the text box 180 degrees  after you have entere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304920" y="4449600"/>
            <a:ext cx="2057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ge 6-Triple-click in this text box and enter your information for Page 6 of your book. Rotate the text box 180 degrees after you have entere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2666880" y="4449600"/>
            <a:ext cx="2133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ge  5-Triple-click in this text box and enter your information for Page 5 of your book. Rotate the text box 180 degrees  after you have entere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2:04:32Z</dcterms:created>
  <dc:creator>Owner</dc:creator>
  <dc:description/>
  <dc:language>en-US</dc:language>
  <cp:lastModifiedBy>misd</cp:lastModifiedBy>
  <dcterms:modified xsi:type="dcterms:W3CDTF">2010-02-22T20:08:26Z</dcterms:modified>
  <cp:revision>7</cp:revision>
  <dc:subject/>
  <dc:title>Slide 1</dc:title>
</cp:coreProperties>
</file>